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F650-BA2F-4781-84BF-EAEBB3E551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2F5-DD44-4A85-932F-67160E6DEE3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6336-C689-4B3C-9E86-EC83DBB2C9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6DA-8041-4463-A58B-2C1E16B2C7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5540-9F3B-4431-94B4-7DB64EDDD7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49C-91B4-4228-B279-3CC0993C9E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3FC9-2D0E-415E-A641-8B7CC0D7808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D3E-1356-44C7-B76C-4482B99131A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D005-1943-41E3-AF61-714003D4E3B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BEC-5AF9-49E0-B865-6F4678F6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21C-ECEC-4501-A884-65F06D0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C53-4351-4139-9422-CF50C6C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42F-473E-4A58-B458-6759D4C3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472-ECFA-47B0-8ED3-76714275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2840-A26A-41C0-940D-0477F8A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C515-A8AE-47C7-BD11-DEB50B8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0C46-7BF5-477B-80F3-DDE62F23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B49-5097-41D1-B605-483A3AEE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5E4-E7CD-4AC5-82D2-7728580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4F37-DC59-4CA5-92DB-60FD28A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03F-BB60-414C-A266-CE308C7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E10-D11E-442D-9A96-8E59651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EA77-CDD1-45D2-82AC-7FDAD61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175-CA73-4D15-B6E3-0BEF9E6D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33B1-4729-4CD7-BF3B-FB244BE1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821-5969-427A-ABDE-D262341D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CB1-7166-4ACE-8143-A24346B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40A-43E8-465F-9066-9072F28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5C8-D855-4275-8D42-5561E379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03B-473B-4600-8FB7-2C8A432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360-6308-4879-9AE1-F721F90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6F4-307A-4982-9884-2C095C81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EF9-150C-4366-89CF-EAE3EE0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7A3-0FC6-46C8-B648-5F1412ABB7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15E-2CD6-422C-94E2-27CA835D21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Cl5CeiT7hU&amp;feature=fvwr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ico-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Measurement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main objective here is to review making SI measurements with attention to accuracy and precisi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ef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ide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description of accuracy vs. prec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verheads on estimating measurements with attention to accuracy and prec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certainty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have uncertainty (estim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using a measuring device, the important thing is to know what each division represents, and to always ESTIMATE EXACTLY ONE DIGI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j0241993"/>
          <p:cNvPicPr/>
          <p:nvPr/>
        </p:nvPicPr>
        <p:blipFill>
          <a:blip r:embed="rId1"/>
          <a:stretch/>
        </p:blipFill>
        <p:spPr>
          <a:xfrm>
            <a:off x="3733920" y="4343400"/>
            <a:ext cx="18176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track of the uncertainty or estimation in a measured quantity or calculated res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digits that are known with certainty AND one uncertain (estimated) dig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uncertain digit is required when recording a measur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ord one digit past the smallest grad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gital readout already includes an estimated last dig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Numb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467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ct nu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estimation, no uncertain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nting numbers,   21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blished equivalencies, 12 in= 1 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ve an infinite no. of sig figs; do not limit the no. of sig figs in a calculated resul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carry uncertain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j0178302"/>
          <p:cNvPicPr/>
          <p:nvPr/>
        </p:nvPicPr>
        <p:blipFill>
          <a:blip r:embed="rId1"/>
          <a:stretch/>
        </p:blipFill>
        <p:spPr>
          <a:xfrm>
            <a:off x="7238880" y="3808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j0178299"/>
          <p:cNvPicPr/>
          <p:nvPr/>
        </p:nvPicPr>
        <p:blipFill>
          <a:blip r:embed="rId2"/>
          <a:stretch/>
        </p:blipFill>
        <p:spPr>
          <a:xfrm>
            <a:off x="914400" y="5335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j0178297"/>
          <p:cNvPicPr/>
          <p:nvPr/>
        </p:nvPicPr>
        <p:blipFill>
          <a:blip r:embed="rId3"/>
          <a:stretch/>
        </p:blipFill>
        <p:spPr>
          <a:xfrm>
            <a:off x="8001000" y="1143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j0233844"/>
          <p:cNvPicPr/>
          <p:nvPr/>
        </p:nvPicPr>
        <p:blipFill>
          <a:blip r:embed="rId4"/>
          <a:stretch/>
        </p:blipFill>
        <p:spPr>
          <a:xfrm>
            <a:off x="5715000" y="4191120"/>
            <a:ext cx="21589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termining the No. of Sig Figs in a Recorded Measu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4" descr="mp00130_"/>
          <p:cNvPicPr/>
          <p:nvPr/>
        </p:nvPicPr>
        <p:blipFill>
          <a:blip r:embed="rId1"/>
          <a:stretch/>
        </p:blipFill>
        <p:spPr>
          <a:xfrm>
            <a:off x="2209680" y="1943280"/>
            <a:ext cx="3962520" cy="3225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400800" y="2743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tlan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57200" y="35053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acif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ntent Placeholder 2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4041720" cy="6559560"/>
          </a:xfrm>
          <a:prstGeom prst="rect">
            <a:avLst/>
          </a:prstGeom>
          <a:ln w="0">
            <a:noFill/>
          </a:ln>
        </p:spPr>
      </p:pic>
      <p:pic>
        <p:nvPicPr>
          <p:cNvPr id="198" name="Content Placeholder 3" descr=""/>
          <p:cNvPicPr/>
          <p:nvPr/>
        </p:nvPicPr>
        <p:blipFill>
          <a:blip r:embed="rId2"/>
          <a:stretch/>
        </p:blipFill>
        <p:spPr>
          <a:xfrm>
            <a:off x="4645080" y="493560"/>
            <a:ext cx="4041720" cy="8601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-230400" y="304920"/>
            <a:ext cx="9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on the decimal point to determine the number of sig figs…………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Straight Connector 14"/>
          <p:cNvSpPr/>
          <p:nvPr/>
        </p:nvSpPr>
        <p:spPr>
          <a:xfrm>
            <a:off x="4412520" y="762120"/>
            <a:ext cx="82440" cy="594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mp00130_"/>
          <p:cNvPicPr/>
          <p:nvPr/>
        </p:nvPicPr>
        <p:blipFill>
          <a:blip r:embed="rId1"/>
          <a:stretch/>
        </p:blipFill>
        <p:spPr>
          <a:xfrm>
            <a:off x="2743200" y="380880"/>
            <a:ext cx="3352680" cy="2732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6629400" y="1143000"/>
            <a:ext cx="1676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lan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934320" y="1981080"/>
            <a:ext cx="1904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sent deci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19200" y="1981080"/>
            <a:ext cx="1963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80880" y="1143000"/>
            <a:ext cx="1600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if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3276720"/>
          <a:ext cx="7696080" cy="3398760"/>
        </p:xfrm>
        <a:graphic>
          <a:graphicData uri="http://schemas.openxmlformats.org/drawingml/2006/table">
            <a:tbl>
              <a:tblPr/>
              <a:tblGrid>
                <a:gridCol w="1676520"/>
                <a:gridCol w="3429000"/>
                <a:gridCol w="259056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ent or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. of Sig Fi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.00  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060 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0    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0000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52"/>
          <p:cNvSpPr/>
          <p:nvPr/>
        </p:nvSpPr>
        <p:spPr>
          <a:xfrm>
            <a:off x="5775480" y="201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6727680" y="4343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880320" y="4495680"/>
            <a:ext cx="81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6705720" y="487692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6705720" y="5486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6705720" y="609588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Number and Unit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 good measurement must always include a number and appropriate units in order to make sens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amples: How tall are you? What is your mass? How much do you weigh? What is your body temp?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view of SI Base Uni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e Uni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c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view of SI Prefix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asuring Devic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295280"/>
          <a:ext cx="8305920" cy="358164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ing To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er stick or metric ru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Balance (vari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topwatc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rmometer (vari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Weight (or any forc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pring scale, force sensor, et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Volume (regular shaped sol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ric ruler (length x w x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Volume (irregular solid or a liqu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Graduated cylind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(NOT a beaker!) </a:t>
                      </a: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i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1295280"/>
          <a:ext cx="8305920" cy="4346640"/>
        </p:xfrm>
        <a:graphic>
          <a:graphicData uri="http://schemas.openxmlformats.org/drawingml/2006/table">
            <a:tbl>
              <a:tblPr/>
              <a:tblGrid>
                <a:gridCol w="1676520"/>
                <a:gridCol w="6629400"/>
              </a:tblGrid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distance from one point to ano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5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. An objects resistance to acceleration. 2. The amount of matter in an obj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 measure of the gravitational FORCE on an object.  Weight = mass x gra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interval between two eve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degree or intensity of heat energy present in a substance or obj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Den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 measure of the mass of a substance per unit of volume.  D = m /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Accurac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reement with a true value, an established standar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close a measurement or calculated result comes to the accepted val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roduc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xtent to which consecutive measurements or calculated results agree with one an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j0336977"/>
          <p:cNvPicPr/>
          <p:nvPr/>
        </p:nvPicPr>
        <p:blipFill>
          <a:blip r:embed="rId1"/>
          <a:stretch/>
        </p:blipFill>
        <p:spPr>
          <a:xfrm>
            <a:off x="39625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cise measurements may or may not be accu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a single accurate result will lead to precise results if repe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term precision is used in reference to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surement, it refers to how finely graduated the instrument i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4 g    vs.    5.41 g  said to be mor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rec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2:14:02Z</dcterms:created>
  <dc:creator>robert wilkin</dc:creator>
  <dc:description/>
  <dc:language>en-US</dc:language>
  <cp:lastModifiedBy>student student</cp:lastModifiedBy>
  <cp:lastPrinted>2008-09-09T19:39:19Z</cp:lastPrinted>
  <dcterms:modified xsi:type="dcterms:W3CDTF">2013-01-30T00:56:08Z</dcterms:modified>
  <cp:revision>30</cp:revision>
  <dc:subject/>
  <dc:title>Measurement</dc:title>
</cp:coreProperties>
</file>